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FBCCE0-A52B-4A88-8ACC-A1439B8DA2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88B0066-F554-4454-B6C1-6F8CF7C4E3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404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7EFB855-22C3-4FA9-A26B-CB9965CD63F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64A184E-DC02-4FFB-BD9A-E5ACE22B915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DD94585-653D-4075-91D7-B42E6D44EF7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8407AEC-C978-429D-86DA-6C466891F09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DCB29D-4781-4F80-AA33-60E983C28BB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1D21F47-F9CA-499E-8571-2D94C273378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AC3E607-AAC2-4CDE-A11B-FD8EEB48F7E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9121550-FAA0-4434-96EE-40ACC7864E5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6C56577-F3F8-46D1-B061-BB1FA595795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74DF235-19F9-4C34-B3E4-B81F9024237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8E6B2B6-AD6F-4B19-BE8B-AA0417E12A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580F760-A5F4-4915-9D4C-FB2B0B6E675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77B83D6-4A01-432E-AA45-BAE3DA3FA21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140AC6A-72C9-412D-9C5A-DB8BB8856EF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3B4775C-7E37-4DF6-87BB-89254ABFDE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3FABC05-6323-4EC7-A84C-8F64946C6BD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D44A46C-223B-4AB2-BB74-6578D655D39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23E44D-8A60-4C64-8B97-0F14DBDF254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9F131EC-E57D-49DA-A12B-567F8DA3F63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145227A-6937-4422-8E0D-CE79C827D2A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743D09C-BD4A-4549-B06E-5C8E08A3F2B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657F216-3D47-45D9-9DF4-1E3B891E071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D1337D3-5CF0-411A-979E-A6DFE07BF4F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C9A618C-EFAF-4457-A01A-85346C47FE1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21BF0A-854E-4CBB-B885-6F6019DB3D2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974960" y="606600"/>
            <a:ext cx="2825640" cy="2118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F172A71-5952-491E-84C9-A4658A1D18E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CB2175-AD11-4F9D-ACF2-2AA9D748C3B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583920" y="2835000"/>
            <a:ext cx="5838840" cy="5902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974960" y="606600"/>
            <a:ext cx="2825640" cy="2118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85F31E-4871-48B2-AB11-D48C03DDC51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6C4BC9-20E1-4E87-9A7B-01D78FE8B62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816A6A6-DFFD-4D3B-AA85-DC995B456CC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4549EF7-88BF-4BA0-B7CD-0E2065DED4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47495B5-ADF7-4044-B783-480DBC92F0E0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2C61AA48-ACC2-4C6A-BCB5-3051B8287E71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1200" y="93960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2401"/>
              </a:spcBef>
              <a:spcAft>
                <a:spcPts val="225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lanning Overview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d Size Measure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ascal LOC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652320" y="134604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34604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xt Pages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652320" y="130176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30176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4"/>
          <p:cNvSpPr/>
          <p:nvPr/>
        </p:nvSpPr>
        <p:spPr>
          <a:xfrm>
            <a:off x="3867120" y="5905440"/>
            <a:ext cx="13906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Page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ript LOC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652320" y="148752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8752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LOC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652320" y="136692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36692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reen LOC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652320" y="139860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39860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lationship to Development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is a reasonably good measure for development of source programs such as Pascal and C++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s are an acceptable measure for document develop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is not an adequate measure for screens, reports, or scrip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other possible measures are function points, screens, and modu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Oval 2"/>
          <p:cNvSpPr/>
          <p:nvPr/>
        </p:nvSpPr>
        <p:spPr>
          <a:xfrm>
            <a:off x="1733400" y="2001960"/>
            <a:ext cx="1622520" cy="15922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cision and Accuracy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1685880" y="4714920"/>
            <a:ext cx="1623960" cy="1590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5762520" y="1995480"/>
            <a:ext cx="1640160" cy="16066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5746680" y="4707000"/>
            <a:ext cx="1656000" cy="1606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828000" y="1582560"/>
            <a:ext cx="2949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ecise and inaccurat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5111280" y="1582560"/>
            <a:ext cx="26946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ise and inaccurat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834840" y="4332240"/>
            <a:ext cx="27450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ecise and accurat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112000" y="4332240"/>
            <a:ext cx="24904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1152360" y="194616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876320" y="189864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152360" y="273528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1763640" y="234936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1876320" y="283068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2373480" y="204300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830160" y="230040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5262480" y="2268360"/>
            <a:ext cx="460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5470200" y="2043000"/>
            <a:ext cx="5882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  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5423040" y="247824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5632560" y="225252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Rectangle 22"/>
          <p:cNvSpPr/>
          <p:nvPr/>
        </p:nvSpPr>
        <p:spPr>
          <a:xfrm>
            <a:off x="5326200" y="197964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1635120" y="461484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1957320" y="565956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3114720" y="464832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2503440" y="506556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130560" y="590076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1587600" y="578808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3306600" y="533880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6370200" y="5273640"/>
            <a:ext cx="5882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  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6274440" y="5065560"/>
            <a:ext cx="7164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    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6240960" y="5419800"/>
            <a:ext cx="7164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    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Rectangle 33"/>
          <p:cNvSpPr/>
          <p:nvPr/>
        </p:nvSpPr>
        <p:spPr>
          <a:xfrm>
            <a:off x="6435720" y="558000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asurement Precis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two people measure the same thing, will they get the same resul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o so requires a precise measurement defini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easure must also be properly appl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cal LOC do not equate to assembler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LOC do not equate to modified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al LOC do not equate to physical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++ LOC may not relate to C++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achine Countab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ment is time-consuming and inaccur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counters can work only on definable program characteristic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rs can be complex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definition se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uitable for Early Plannin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060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ssue is, what can you visualize earl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house, square feet predict cos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w people can visualize a house in terms of square feet of living spa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s of rooms are more intui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uitive size measures are needed for good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uitable for Early Plannin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fortunately, the popular intuitive measure is not measurable, and the popular measurable measure is not intui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ui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directly measur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intui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ly measur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electing a Size Measur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product development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s require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character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special development con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k products by resources requ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what characteristics distinguish those products that took the greatest effort from those that took the leas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electing a Size Measur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f these differences are measur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e this measure for the product s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re is no correlation, try aga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may be no single best measu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bination of measures could be nee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 for handling multiple measures are discussed lat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electing a Size Measure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are better at estimating resources than program size, size estimation will not improve your plann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estimate resources directly, you m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accurate record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 a large 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n estimating gu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6120" y="446040"/>
            <a:ext cx="775152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SEI Measurement Framework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EI measure uses logical (versus physical) lines of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 specif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cu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xecu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d statement typ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 and code ty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igin and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nting Program Siz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al li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ariant to editing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e with development eff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quely defin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o c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li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y to coun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invari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uniquely definab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nting Program Siz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060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uses a coding standard and a physical LOC count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line for each logical 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tandard must be faithfully follow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, physical line counting equals logical line count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83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 Counting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dure ISet.Set(var N: int; var inc: boolean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 := false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Ptr := SetStar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(SearchPtr&lt;&gt;nil) and (inc == false) 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earchPtr^.ThisN ==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 := tr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Ptr:=SearchPtr^.NextN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Counting Standar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 all statements.  This inclu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, end, if, then, else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, }, ;, 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larations, directives, heade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count blanks, comment lines, automatically generated code, or reuse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 new and changed code for measuring and estimating development productiv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ine of Code Account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small programs, size tracking can be done manually, but it requires c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larger programs, size tracking requires an accounting sys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accounting provides an orderly and precise way to track LOC changes through multiple program vers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6120" y="687240"/>
            <a:ext cx="75484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3040" y="17524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measure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ment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EI size measurement frame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ing program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ing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of LOC Accounting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70080" y="1487520"/>
            <a:ext cx="2975040" cy="10033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sion 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0 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62160" y="3216240"/>
            <a:ext cx="3000600" cy="92700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hance to version 1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125 new and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d 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76280" y="4726080"/>
            <a:ext cx="2816280" cy="7189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siz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0+125=475 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285000" y="5776920"/>
            <a:ext cx="29642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700" spc="-1" strike="noStrike">
                <a:solidFill>
                  <a:srgbClr val="ccccff"/>
                </a:solidFill>
                <a:latin typeface="Arial"/>
              </a:rPr>
              <a:t>What happened?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5105520" y="4726080"/>
            <a:ext cx="2816280" cy="7189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d size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0 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5" name="Line 8"/>
          <p:cNvSpPr/>
          <p:nvPr/>
        </p:nvSpPr>
        <p:spPr>
          <a:xfrm>
            <a:off x="4497480" y="2511360"/>
            <a:ext cx="0" cy="6811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6" name="Line 9"/>
          <p:cNvSpPr/>
          <p:nvPr/>
        </p:nvSpPr>
        <p:spPr>
          <a:xfrm flipH="1">
            <a:off x="2673000" y="4183200"/>
            <a:ext cx="1824120" cy="5238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4487760" y="4183200"/>
            <a:ext cx="1838520" cy="5094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of LOC Accountin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1120" y="1511280"/>
            <a:ext cx="75596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1190520"/>
                <a:tab algn="l" pos="2381400"/>
                <a:tab algn="l" pos="3571920"/>
                <a:tab algn="l" pos="4762440"/>
                <a:tab algn="l" pos="5952960"/>
                <a:tab algn="l" pos="7143840"/>
                <a:tab algn="l" pos="8334360"/>
                <a:tab algn="l" pos="9524880"/>
                <a:tab algn="l" pos="1071576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473120" y="1549440"/>
          <a:ext cx="6235920" cy="4470480"/>
        </p:xfrm>
        <a:graphic>
          <a:graphicData uri="http://schemas.openxmlformats.org/drawingml/2006/table">
            <a:tbl>
              <a:tblPr/>
              <a:tblGrid>
                <a:gridCol w="1663920"/>
                <a:gridCol w="1523880"/>
                <a:gridCol w="1511280"/>
                <a:gridCol w="1536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tract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 V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et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V0 LO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et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 Produc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New and Changed LO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20800" y="1536840"/>
            <a:ext cx="7735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effectively plan and manage your work, you must measure product s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uses LOC as the size measu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other measures, size must correlate with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ry size measure should be precisely defined and automatically count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Make Plans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you to make commitments that you can m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 basis for agreeing on the j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ide you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to track your prog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 project comple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ject Planning Fra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69680" y="5587920"/>
            <a:ext cx="862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630560" y="5530680"/>
            <a:ext cx="930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41560" y="1347840"/>
            <a:ext cx="1566720" cy="58716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48040" y="2206800"/>
            <a:ext cx="1568160" cy="7286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058840" y="3213000"/>
            <a:ext cx="1557360" cy="4874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055960" y="3970440"/>
            <a:ext cx="1549080" cy="57456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050920" y="4813200"/>
            <a:ext cx="1565280" cy="4906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2048040" y="5581800"/>
            <a:ext cx="1568160" cy="5810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038480" y="5446800"/>
            <a:ext cx="1400400" cy="7160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ize, resource,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6051600" y="5499000"/>
            <a:ext cx="1154160" cy="6638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4016520" y="4697280"/>
            <a:ext cx="1331640" cy="63684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4024440" y="3008160"/>
            <a:ext cx="1315800" cy="73044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1684440" y="1658880"/>
            <a:ext cx="33156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2874960" y="2017800"/>
            <a:ext cx="0" cy="1620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3637080" y="5811840"/>
            <a:ext cx="38556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5456160" y="5811840"/>
            <a:ext cx="57960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Line 19"/>
          <p:cNvSpPr/>
          <p:nvPr/>
        </p:nvSpPr>
        <p:spPr>
          <a:xfrm flipV="1">
            <a:off x="6632640" y="3425760"/>
            <a:ext cx="0" cy="20541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Line 20"/>
          <p:cNvSpPr/>
          <p:nvPr/>
        </p:nvSpPr>
        <p:spPr>
          <a:xfrm flipH="1">
            <a:off x="5378040" y="3413160"/>
            <a:ext cx="12524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5378040" y="4260960"/>
            <a:ext cx="12524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3639960" y="3392640"/>
            <a:ext cx="3859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639960" y="5008680"/>
            <a:ext cx="3686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Line 24"/>
          <p:cNvSpPr/>
          <p:nvPr/>
        </p:nvSpPr>
        <p:spPr>
          <a:xfrm>
            <a:off x="2874960" y="3021120"/>
            <a:ext cx="0" cy="16488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874960" y="3798720"/>
            <a:ext cx="0" cy="1447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2874960" y="4630680"/>
            <a:ext cx="0" cy="1620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Line 27"/>
          <p:cNvSpPr/>
          <p:nvPr/>
        </p:nvSpPr>
        <p:spPr>
          <a:xfrm>
            <a:off x="2874960" y="5349960"/>
            <a:ext cx="0" cy="20484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Line 28"/>
          <p:cNvSpPr/>
          <p:nvPr/>
        </p:nvSpPr>
        <p:spPr>
          <a:xfrm flipH="1">
            <a:off x="1612440" y="5832360"/>
            <a:ext cx="4208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5378400" y="5003640"/>
            <a:ext cx="1246320" cy="0"/>
          </a:xfrm>
          <a:prstGeom prst="line">
            <a:avLst/>
          </a:prstGeom>
          <a:ln w="12600">
            <a:solidFill>
              <a:srgbClr val="cccc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Line 30"/>
          <p:cNvSpPr/>
          <p:nvPr/>
        </p:nvSpPr>
        <p:spPr>
          <a:xfrm>
            <a:off x="7232760" y="5811840"/>
            <a:ext cx="45396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Line 31"/>
          <p:cNvSpPr/>
          <p:nvPr/>
        </p:nvSpPr>
        <p:spPr>
          <a:xfrm flipH="1">
            <a:off x="3625920" y="4257720"/>
            <a:ext cx="35568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Oval 32"/>
          <p:cNvSpPr/>
          <p:nvPr/>
        </p:nvSpPr>
        <p:spPr>
          <a:xfrm>
            <a:off x="3989520" y="3867120"/>
            <a:ext cx="1384200" cy="73332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Measure Size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you to make better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st you in tracking develop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ize other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 resour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Measurement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ments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ed to development eff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 coun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itable for early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Versus Development Effor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requirement:  If the size measure is not directly related to development cost, it is not worth us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many possible mea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code (LO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s, screens, scripts,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ize measure should be sensitive to language, design, and development practi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++ LOC 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Versus 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Development Tim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639720" y="141300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41300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8-30T14:13:49Z</cp:lastPrinted>
  <dcterms:modified xsi:type="dcterms:W3CDTF">2018-09-06T00:16:34Z</dcterms:modified>
  <cp:revision>69</cp:revision>
  <dc:subject/>
  <dc:title>No Slide Title</dc:title>
</cp:coreProperties>
</file>